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94D7E5-D022-46A9-A404-A122BFEB4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EE067E-1927-4EC8-A9D7-A33C3D8AEC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EA9FB0-FE5B-4F18-9E17-89EFAAEBB56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B7984E-88BE-400C-8494-0D8B3BEB9B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9E1A67-55A1-470A-85D7-72A7D11917F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5BFEA9-64E2-45B4-9DFD-5805CCC9037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719C6B-D530-4833-BD14-6FCE536B0C1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9F372F-0512-4D3D-9FA7-8B86A3E48E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2C96E0-BBA9-4703-A71F-ED2E274A9F5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1C9D4F-3B1B-4A43-9DFA-9B25DE79E6D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ACF069-8130-4103-B56A-78C518B98F2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86F74F-A4FA-40ED-AF7F-89DBF4877D2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FEADA5-4A3A-4468-8A27-3DCAA9E7897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523410-44CB-4AA4-9257-C69E4D7876D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9E5BB5-ACBC-49D4-838E-B0C68098C923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C35E7B-6162-4D63-B7BD-7187E6A473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DE9C6-EA38-46DE-9BB8-55300E350FFA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EC6B3B-A1C8-4FB4-BC41-EA15B27A522D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8E18EE-3414-48ED-8EA6-C8FAFA9E93E2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EEBBC8-E73C-42FE-BD6B-E75599586B3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DDF44C-AF1F-4C6D-B348-384662348B3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432C04-0BFF-4838-8EAD-CD3CC05A83E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72B19A-8FB0-462F-9FAD-FD482CB73F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F4856C-1863-4308-9C20-B5903D391B5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F436A0-BACD-4580-8C0E-A01ACC63B7A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D48-6CD4-4420-89D9-686E2EBD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F74-85F4-4C4C-AFB4-7DFF07C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1B4-0E8B-46D9-B492-BA77801D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96E-9CAF-43E3-BB3F-EEBAA23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65A3-3C6B-475B-AB65-9909CF99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485D-3C08-48CA-B5FD-11D3219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5FB6-6162-46F1-9620-705E3DE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B84E-21A5-4FDF-BF80-FB0F128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41C-5EBC-4DC9-933F-0088736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A29-C32D-4F75-A7CA-2148D3A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08A9-2805-44A1-875D-33E7887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16A-2394-4766-B83F-2D6E97FA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5492-5EB9-4F61-AC35-7F990AC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2207-59E3-4158-8ED5-A88B128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B206-ABDE-4008-8FE7-69821E36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F3B-B0BC-47E0-A7CD-4278C240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7274-3E8F-425A-A027-64597A1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357-60F8-4217-8614-E30690A6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540-C2A1-4279-B03C-2E5FA7F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001-39BE-41E4-8ACE-2B413817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82A-017A-49D3-8259-7927E5A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C2B-2FF9-45EA-891F-B48C0437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F39-7DBA-4676-A54F-D1D7145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2C0-5038-4ED0-913C-7849B9A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5E06-6939-438E-8D56-B90BBE36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3A3C-CE7E-4D66-9EC0-45FDAF1C51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A85-01C5-4CC5-AA2E-B88FE64506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hoo! Presentation,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en.wikipedia.org/wiki/Central_limit_theore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2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275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291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6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297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34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42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8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49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2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53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54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5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7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8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9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60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44"/>
              <p:cNvCxnSpPr>
                <a:stCxn id="160" idx="3"/>
                <a:endCxn id="161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AutoShape 45"/>
              <p:cNvCxnSpPr>
                <a:stCxn id="161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7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47"/>
              <p:cNvCxnSpPr>
                <a:stCxn id="167" idx="3"/>
                <a:endCxn id="162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AutoShape 48"/>
              <p:cNvCxnSpPr>
                <a:stCxn id="162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AutoShape 49"/>
              <p:cNvCxnSpPr>
                <a:stCxn id="163" idx="3"/>
                <a:endCxn id="164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71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72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4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5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6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77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8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312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MS PGothic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7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320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6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words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Key step in many IR task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the token in Invert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dictionary terms in bag-of-wor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tc.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Supervised and unsupervi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Keyword extra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85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93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9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200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3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204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205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6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7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8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9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10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11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6" name="AutoShape 44"/>
              <p:cNvCxnSpPr>
                <a:stCxn id="211" idx="3"/>
                <a:endCxn id="212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45"/>
              <p:cNvCxnSpPr>
                <a:stCxn id="212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8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9" name="AutoShape 47"/>
              <p:cNvCxnSpPr>
                <a:stCxn id="218" idx="3"/>
                <a:endCxn id="213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AutoShape 48"/>
              <p:cNvCxnSpPr>
                <a:stCxn id="213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1" name="AutoShape 49"/>
              <p:cNvCxnSpPr>
                <a:stCxn id="214" idx="3"/>
                <a:endCxn id="215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2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6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7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228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236" name="Ovale 4"/>
          <p:cNvSpPr/>
          <p:nvPr/>
        </p:nvSpPr>
        <p:spPr>
          <a:xfrm>
            <a:off x="5435640" y="6315120"/>
            <a:ext cx="68256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Ovale 54"/>
          <p:cNvSpPr/>
          <p:nvPr/>
        </p:nvSpPr>
        <p:spPr>
          <a:xfrm>
            <a:off x="1620720" y="2286000"/>
            <a:ext cx="251964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tatistical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Collocation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wo or more words that correspond to some conventional way of say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Limited compositiona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aning cannot be fully inferred by its constitutent words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hai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substitu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substitute other words and keep same meaning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yellow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modifi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add lexical material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an idiom would be chang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Just frequency + PoS tagg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2" descr=""/>
          <p:cNvPicPr/>
          <p:nvPr/>
        </p:nvPicPr>
        <p:blipFill>
          <a:blip r:embed="rId1"/>
          <a:stretch/>
        </p:blipFill>
        <p:spPr>
          <a:xfrm>
            <a:off x="147600" y="1989000"/>
            <a:ext cx="3341880" cy="3436920"/>
          </a:xfrm>
          <a:prstGeom prst="rect">
            <a:avLst/>
          </a:prstGeom>
          <a:ln w="0">
            <a:noFill/>
          </a:ln>
        </p:spPr>
      </p:pic>
      <p:pic>
        <p:nvPicPr>
          <p:cNvPr id="335" name="Immagine 3" descr=""/>
          <p:cNvPicPr/>
          <p:nvPr/>
        </p:nvPicPr>
        <p:blipFill>
          <a:blip r:embed="rId2"/>
          <a:stretch/>
        </p:blipFill>
        <p:spPr>
          <a:xfrm>
            <a:off x="3868560" y="1557360"/>
            <a:ext cx="4591080" cy="2341440"/>
          </a:xfrm>
          <a:prstGeom prst="rect">
            <a:avLst/>
          </a:prstGeom>
          <a:ln w="0">
            <a:noFill/>
          </a:ln>
        </p:spPr>
      </p:pic>
      <p:pic>
        <p:nvPicPr>
          <p:cNvPr id="336" name="Immagine 5" descr=""/>
          <p:cNvPicPr/>
          <p:nvPr/>
        </p:nvPicPr>
        <p:blipFill>
          <a:blip r:embed="rId3"/>
          <a:stretch/>
        </p:blipFill>
        <p:spPr>
          <a:xfrm>
            <a:off x="3833640" y="4025880"/>
            <a:ext cx="469908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ean and Vari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1"/>
          <p:cNvSpPr/>
          <p:nvPr/>
        </p:nvSpPr>
        <p:spPr>
          <a:xfrm>
            <a:off x="533520" y="184464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Often the words are not adjacent to each other (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eed flexibil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9" name="Immagin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79960" cy="173988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8"/>
          <p:cNvSpPr/>
          <p:nvPr/>
        </p:nvSpPr>
        <p:spPr>
          <a:xfrm>
            <a:off x="533520" y="4869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ompute the mean and the variance of th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dista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by restricting within a window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Connettore 1 2"/>
          <p:cNvSpPr/>
          <p:nvPr/>
        </p:nvSpPr>
        <p:spPr>
          <a:xfrm>
            <a:off x="3059280" y="292428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Connettore 1 8"/>
          <p:cNvSpPr/>
          <p:nvPr/>
        </p:nvSpPr>
        <p:spPr>
          <a:xfrm>
            <a:off x="4716360" y="2924280"/>
            <a:ext cx="43200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Connettore 1 10"/>
          <p:cNvSpPr/>
          <p:nvPr/>
        </p:nvSpPr>
        <p:spPr>
          <a:xfrm>
            <a:off x="3132000" y="335772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nettore 1 11"/>
          <p:cNvSpPr/>
          <p:nvPr/>
        </p:nvSpPr>
        <p:spPr>
          <a:xfrm>
            <a:off x="4788000" y="335772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Connettore 1 12"/>
          <p:cNvSpPr/>
          <p:nvPr/>
        </p:nvSpPr>
        <p:spPr>
          <a:xfrm>
            <a:off x="3924360" y="378936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Connettore 1 13"/>
          <p:cNvSpPr/>
          <p:nvPr/>
        </p:nvSpPr>
        <p:spPr>
          <a:xfrm>
            <a:off x="6516720" y="378936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Connettore 1 14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Connettore 1 15"/>
          <p:cNvSpPr/>
          <p:nvPr/>
        </p:nvSpPr>
        <p:spPr>
          <a:xfrm>
            <a:off x="6280200" y="422604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Immagine 3" descr=""/>
          <p:cNvPicPr/>
          <p:nvPr/>
        </p:nvPicPr>
        <p:blipFill>
          <a:blip r:embed="rId1"/>
          <a:srcRect l="0" t="1455" r="0" b="48580"/>
          <a:stretch/>
        </p:blipFill>
        <p:spPr>
          <a:xfrm>
            <a:off x="1258920" y="1700280"/>
            <a:ext cx="7083360" cy="2592360"/>
          </a:xfrm>
          <a:prstGeom prst="rect">
            <a:avLst/>
          </a:prstGeom>
          <a:ln w="0">
            <a:noFill/>
          </a:ln>
        </p:spPr>
      </p:pic>
      <p:pic>
        <p:nvPicPr>
          <p:cNvPr id="351" name="Immagine 3" descr=""/>
          <p:cNvPicPr/>
          <p:nvPr/>
        </p:nvPicPr>
        <p:blipFill>
          <a:blip r:embed="rId2"/>
          <a:srcRect l="0" t="1455" r="0" b="0"/>
          <a:stretch/>
        </p:blipFill>
        <p:spPr>
          <a:xfrm>
            <a:off x="1258920" y="1700280"/>
            <a:ext cx="7083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Immagine 1" descr=""/>
          <p:cNvPicPr/>
          <p:nvPr/>
        </p:nvPicPr>
        <p:blipFill>
          <a:blip r:embed="rId1"/>
          <a:stretch/>
        </p:blipFill>
        <p:spPr>
          <a:xfrm>
            <a:off x="1809720" y="1628640"/>
            <a:ext cx="6507360" cy="3926160"/>
          </a:xfrm>
          <a:prstGeom prst="rect">
            <a:avLst/>
          </a:prstGeom>
          <a:ln w="0">
            <a:noFill/>
          </a:ln>
        </p:spPr>
      </p:pic>
      <p:sp>
        <p:nvSpPr>
          <p:cNvPr id="354" name="Rettangolo 4"/>
          <p:cNvSpPr/>
          <p:nvPr/>
        </p:nvSpPr>
        <p:spPr>
          <a:xfrm>
            <a:off x="684360" y="5661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s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the collocation is not interes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d &gt; 0 and s very small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nteresting (new) phr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arentesi graffa aperta 3"/>
          <p:cNvSpPr/>
          <p:nvPr/>
        </p:nvSpPr>
        <p:spPr>
          <a:xfrm>
            <a:off x="1522440" y="3349800"/>
            <a:ext cx="601560" cy="1015920"/>
          </a:xfrm>
          <a:custGeom>
            <a:avLst/>
            <a:gdLst>
              <a:gd name="textAreaLeft" fmla="*/ 384480 w 601560"/>
              <a:gd name="textAreaRight" fmla="*/ 601920 w 601560"/>
              <a:gd name="textAreaTop" fmla="*/ 15480 h 1015920"/>
              <a:gd name="textAreaBottom" fmla="*/ 10004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4"/>
                </a:cubicBezTo>
                <a:lnTo>
                  <a:pt x="10800" y="10102"/>
                </a:lnTo>
                <a:cubicBezTo>
                  <a:pt x="10800" y="10634"/>
                  <a:pt x="5400" y="11166"/>
                  <a:pt x="0" y="11166"/>
                </a:cubicBezTo>
                <a:cubicBezTo>
                  <a:pt x="5400" y="11166"/>
                  <a:pt x="10800" y="11698"/>
                  <a:pt x="10800" y="12230"/>
                </a:cubicBezTo>
                <a:lnTo>
                  <a:pt x="10800" y="20536"/>
                </a:lnTo>
                <a:cubicBezTo>
                  <a:pt x="10800" y="2106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68040" y="3284640"/>
            <a:ext cx="13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High s n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ttangolo 4"/>
          <p:cNvSpPr/>
          <p:nvPr/>
        </p:nvSpPr>
        <p:spPr>
          <a:xfrm>
            <a:off x="611280" y="59072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it is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improbably 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then reject t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ull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hy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9" name="Immagine 1" descr=""/>
          <p:cNvPicPr/>
          <p:nvPr/>
        </p:nvPicPr>
        <p:blipFill>
          <a:blip r:embed="rId1"/>
          <a:stretch/>
        </p:blipFill>
        <p:spPr>
          <a:xfrm>
            <a:off x="4254480" y="1844640"/>
            <a:ext cx="4803840" cy="3664080"/>
          </a:xfrm>
          <a:prstGeom prst="rect">
            <a:avLst/>
          </a:prstGeom>
          <a:ln w="0">
            <a:noFill/>
          </a:ln>
        </p:spPr>
      </p:pic>
      <p:sp>
        <p:nvSpPr>
          <p:cNvPr id="360" name="Rettangolo 2"/>
          <p:cNvSpPr/>
          <p:nvPr/>
        </p:nvSpPr>
        <p:spPr>
          <a:xfrm>
            <a:off x="250920" y="2057400"/>
            <a:ext cx="3889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Test statistics that follow a chi-squared distribution arise from an assumption of independent normally distributed data, which is valid in many cases due to the 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Lucida Sans"/>
                <a:ea typeface="Arial"/>
                <a:hlinkClick r:id="rId2"/>
              </a:rPr>
              <a:t>central limit theorem</a:t>
            </a: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ttangolo 4"/>
          <p:cNvSpPr/>
          <p:nvPr/>
        </p:nvSpPr>
        <p:spPr>
          <a:xfrm>
            <a:off x="533520" y="1587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t is good for few occur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3" name="Immagine 2" descr=""/>
          <p:cNvPicPr/>
          <p:nvPr/>
        </p:nvPicPr>
        <p:blipFill>
          <a:blip r:embed="rId1"/>
          <a:stretch/>
        </p:blipFill>
        <p:spPr>
          <a:xfrm>
            <a:off x="501480" y="2379600"/>
            <a:ext cx="8318520" cy="3365640"/>
          </a:xfrm>
          <a:prstGeom prst="rect">
            <a:avLst/>
          </a:prstGeom>
          <a:ln w="0">
            <a:noFill/>
          </a:ln>
        </p:spPr>
      </p:pic>
      <p:sp>
        <p:nvSpPr>
          <p:cNvPr id="364" name="Rettangolo 3"/>
          <p:cNvSpPr/>
          <p:nvPr/>
        </p:nvSpPr>
        <p:spPr>
          <a:xfrm>
            <a:off x="0" y="60213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or an r * c table, there are (r - 1)(c - 1)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6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961920" y="1643040"/>
            <a:ext cx="7047000" cy="1692360"/>
          </a:xfrm>
          <a:prstGeom prst="rect">
            <a:avLst/>
          </a:prstGeom>
          <a:ln w="0">
            <a:noFill/>
          </a:ln>
        </p:spPr>
      </p:pic>
      <p:pic>
        <p:nvPicPr>
          <p:cNvPr id="367" name="Immagine 1" descr=""/>
          <p:cNvPicPr/>
          <p:nvPr/>
        </p:nvPicPr>
        <p:blipFill>
          <a:blip r:embed="rId2"/>
          <a:srcRect l="0" t="0" r="10430" b="0"/>
          <a:stretch/>
        </p:blipFill>
        <p:spPr>
          <a:xfrm>
            <a:off x="515880" y="4071960"/>
            <a:ext cx="3335400" cy="1104840"/>
          </a:xfrm>
          <a:prstGeom prst="rect">
            <a:avLst/>
          </a:prstGeom>
          <a:ln w="0">
            <a:noFill/>
          </a:ln>
        </p:spPr>
      </p:pic>
      <p:sp>
        <p:nvSpPr>
          <p:cNvPr id="368" name="Rettangolo 5"/>
          <p:cNvSpPr/>
          <p:nvPr/>
        </p:nvSpPr>
        <p:spPr>
          <a:xfrm>
            <a:off x="395280" y="32130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o estabish the significance of a collocation,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ttangolo 7"/>
          <p:cNvSpPr/>
          <p:nvPr/>
        </p:nvSpPr>
        <p:spPr>
          <a:xfrm>
            <a:off x="3929040" y="4233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here E_ij = N * freq(i) * freq(j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uppo 8"/>
          <p:cNvGrpSpPr/>
          <p:nvPr/>
        </p:nvGrpSpPr>
        <p:grpSpPr>
          <a:xfrm>
            <a:off x="77760" y="4711680"/>
            <a:ext cx="7710480" cy="1733400"/>
            <a:chOff x="77760" y="4711680"/>
            <a:chExt cx="7710480" cy="1733400"/>
          </a:xfrm>
        </p:grpSpPr>
        <p:pic>
          <p:nvPicPr>
            <p:cNvPr id="371" name="Immagine 3" descr=""/>
            <p:cNvPicPr/>
            <p:nvPr/>
          </p:nvPicPr>
          <p:blipFill>
            <a:blip r:embed="rId3"/>
            <a:srcRect l="3182" t="0" r="3688" b="0"/>
            <a:stretch/>
          </p:blipFill>
          <p:spPr>
            <a:xfrm>
              <a:off x="516240" y="5403600"/>
              <a:ext cx="72720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ccia circolare a destra 6"/>
            <p:cNvSpPr/>
            <p:nvPr/>
          </p:nvSpPr>
          <p:spPr>
            <a:xfrm>
              <a:off x="77760" y="4711680"/>
              <a:ext cx="366480" cy="1563120"/>
            </a:xfrm>
            <a:custGeom>
              <a:avLst/>
              <a:gdLst>
                <a:gd name="textAreaLeft" fmla="*/ 48960 w 366480"/>
                <a:gd name="textAreaRight" fmla="*/ 317520 w 366480"/>
                <a:gd name="textAreaTop" fmla="*/ 307800 h 1563120"/>
                <a:gd name="textAreaBottom" fmla="*/ 1015920 h 156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15" stAng="-5400000" swAng="-5400000"/>
                  <a:lnTo>
                    <a:pt x="0" y="9781"/>
                  </a:lnTo>
                  <a:arcTo wR="21600" hR="8515" stAng="10800000" swAng="-3406484"/>
                  <a:lnTo>
                    <a:pt x="16200" y="21330"/>
                  </a:lnTo>
                  <a:lnTo>
                    <a:pt x="21600" y="17662"/>
                  </a:lnTo>
                  <a:lnTo>
                    <a:pt x="16200" y="13454"/>
                  </a:lnTo>
                  <a:lnTo>
                    <a:pt x="16200" y="16759"/>
                  </a:lnTo>
                  <a:arcTo wR="21600" hR="8515" stAng="7393516" swAng="3305489"/>
                  <a:lnTo>
                    <a:pt x="60" y="9147"/>
                  </a:lnTo>
                  <a:arcTo wR="21600" hR="8515" stAng="-10699004" swAng="5299004"/>
                  <a:close/>
                </a:path>
                <a:path fill="darkenLess" w="21600" h="21600">
                  <a:moveTo>
                    <a:pt x="21600" y="0"/>
                  </a:moveTo>
                  <a:arcTo wR="21600" hR="8515" stAng="-5400000" swAng="-5400000"/>
                  <a:lnTo>
                    <a:pt x="0" y="8515"/>
                  </a:lnTo>
                  <a:arcTo wR="21600" hR="8515" stAng="10800000" swAng="-100996"/>
                  <a:lnTo>
                    <a:pt x="60" y="9147"/>
                  </a:lnTo>
                  <a:arcTo wR="21600" hR="8515" stAng="-10699004" swAng="5299004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Rettangolo 9"/>
          <p:cNvSpPr/>
          <p:nvPr/>
        </p:nvSpPr>
        <p:spPr>
          <a:xfrm>
            <a:off x="7786080" y="5722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5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582480" y="1557360"/>
            <a:ext cx="4926240" cy="1182600"/>
          </a:xfrm>
          <a:prstGeom prst="rect">
            <a:avLst/>
          </a:prstGeom>
          <a:ln w="0">
            <a:noFill/>
          </a:ln>
        </p:spPr>
      </p:pic>
      <p:sp>
        <p:nvSpPr>
          <p:cNvPr id="376" name="Rettangolo 9"/>
          <p:cNvSpPr/>
          <p:nvPr/>
        </p:nvSpPr>
        <p:spPr>
          <a:xfrm>
            <a:off x="5613120" y="1846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Symbol"/>
              </a:rPr>
              <a:t>Chi-square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11"/>
          <p:cNvSpPr/>
          <p:nvPr/>
        </p:nvSpPr>
        <p:spPr>
          <a:xfrm>
            <a:off x="503280" y="59832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he value in this tables is 2.71 so our X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  <a:ea typeface="MS PGothic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is smaller (=1.55), and hence th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ull hypothesi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lausible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this is not a good pai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Immagine 1" descr=""/>
          <p:cNvPicPr/>
          <p:nvPr/>
        </p:nvPicPr>
        <p:blipFill>
          <a:blip r:embed="rId2"/>
          <a:stretch/>
        </p:blipFill>
        <p:spPr>
          <a:xfrm>
            <a:off x="719280" y="3762360"/>
            <a:ext cx="6840360" cy="1952640"/>
          </a:xfrm>
          <a:prstGeom prst="rect">
            <a:avLst/>
          </a:prstGeom>
          <a:ln w="0">
            <a:noFill/>
          </a:ln>
        </p:spPr>
      </p:pic>
      <p:sp>
        <p:nvSpPr>
          <p:cNvPr id="379" name="Rettangolo 2"/>
          <p:cNvSpPr/>
          <p:nvPr/>
        </p:nvSpPr>
        <p:spPr>
          <a:xfrm>
            <a:off x="3708360" y="3770280"/>
            <a:ext cx="647640" cy="1952640"/>
          </a:xfrm>
          <a:prstGeom prst="rect">
            <a:avLst/>
          </a:prstGeom>
          <a:noFill/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ttangolo 3"/>
          <p:cNvSpPr/>
          <p:nvPr/>
        </p:nvSpPr>
        <p:spPr>
          <a:xfrm>
            <a:off x="503280" y="27813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254"/>
                </a:solidFill>
                <a:latin typeface="Lucida Sans"/>
                <a:ea typeface="MS PGothic"/>
              </a:rPr>
              <a:t>There are (r - 1)(c - 1) = 1* 1 = 1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ttangolo 14"/>
          <p:cNvSpPr/>
          <p:nvPr/>
        </p:nvSpPr>
        <p:spPr>
          <a:xfrm>
            <a:off x="719280" y="4194000"/>
            <a:ext cx="6840360" cy="290520"/>
          </a:xfrm>
          <a:prstGeom prst="rect">
            <a:avLst/>
          </a:prstGeom>
          <a:noFill/>
          <a:ln w="572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ttangolo 3"/>
          <p:cNvSpPr/>
          <p:nvPr/>
        </p:nvSpPr>
        <p:spPr>
          <a:xfrm>
            <a:off x="522360" y="327492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  <a:ea typeface="MS PGothic"/>
              </a:rPr>
              <a:t>Let us consider a P-value = 0.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apid Automatic Keyword Extr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ttangolo 5"/>
          <p:cNvSpPr/>
          <p:nvPr/>
        </p:nvSpPr>
        <p:spPr>
          <a:xfrm>
            <a:off x="503280" y="1700280"/>
            <a:ext cx="82152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Key properti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orks on single (not much long)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asily applicable to new dom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nsupervis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ttangolo 11"/>
          <p:cNvSpPr/>
          <p:nvPr/>
        </p:nvSpPr>
        <p:spPr>
          <a:xfrm>
            <a:off x="25092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Key observation: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keywords frequently contain multiple words but rarely contain punctuation or stop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MS PGothic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input paramete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word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phrase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list of stop words (or stoplist)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: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cument is split into an array of words by the specified word delimiter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is array is split into sequences of contiguous words at phrase delimiters and then stop 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ords within a sequence are considered a candidate key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7200" y="479736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0" name="Immagin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31080" cy="3311640"/>
          </a:xfrm>
          <a:prstGeom prst="rect">
            <a:avLst/>
          </a:prstGeom>
          <a:ln w="0">
            <a:noFill/>
          </a:ln>
        </p:spPr>
      </p:pic>
      <p:pic>
        <p:nvPicPr>
          <p:cNvPr id="391" name="Immagine 4" descr=""/>
          <p:cNvPicPr/>
          <p:nvPr/>
        </p:nvPicPr>
        <p:blipFill>
          <a:blip r:embed="rId2"/>
          <a:stretch/>
        </p:blipFill>
        <p:spPr>
          <a:xfrm>
            <a:off x="250920" y="5221440"/>
            <a:ext cx="8893080" cy="1663560"/>
          </a:xfrm>
          <a:prstGeom prst="rect">
            <a:avLst/>
          </a:prstGeom>
          <a:ln w="0">
            <a:noFill/>
          </a:ln>
        </p:spPr>
      </p:pic>
      <p:grpSp>
        <p:nvGrpSpPr>
          <p:cNvPr id="392" name="Gruppo 14"/>
          <p:cNvGrpSpPr/>
          <p:nvPr/>
        </p:nvGrpSpPr>
        <p:grpSpPr>
          <a:xfrm>
            <a:off x="512640" y="5661000"/>
            <a:ext cx="7659720" cy="746280"/>
            <a:chOff x="512640" y="5661000"/>
            <a:chExt cx="7659720" cy="746280"/>
          </a:xfrm>
        </p:grpSpPr>
        <p:sp>
          <p:nvSpPr>
            <p:cNvPr id="393" name="Connettore 1 2"/>
            <p:cNvSpPr/>
            <p:nvPr/>
          </p:nvSpPr>
          <p:spPr>
            <a:xfrm>
              <a:off x="2843640" y="5661000"/>
              <a:ext cx="15840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Connettore 1 7"/>
            <p:cNvSpPr/>
            <p:nvPr/>
          </p:nvSpPr>
          <p:spPr>
            <a:xfrm flipV="1">
              <a:off x="4716000" y="5661000"/>
              <a:ext cx="19443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Connettore 1 9"/>
            <p:cNvSpPr/>
            <p:nvPr/>
          </p:nvSpPr>
          <p:spPr>
            <a:xfrm flipV="1">
              <a:off x="2678040" y="5877360"/>
              <a:ext cx="26859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Connettore 1 11"/>
            <p:cNvSpPr/>
            <p:nvPr/>
          </p:nvSpPr>
          <p:spPr>
            <a:xfrm flipV="1">
              <a:off x="5616000" y="5877000"/>
              <a:ext cx="1476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Connettore 1 13"/>
            <p:cNvSpPr/>
            <p:nvPr/>
          </p:nvSpPr>
          <p:spPr>
            <a:xfrm flipV="1">
              <a:off x="7380360" y="5899680"/>
              <a:ext cx="792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Connettore 1 15"/>
            <p:cNvSpPr/>
            <p:nvPr/>
          </p:nvSpPr>
          <p:spPr>
            <a:xfrm flipV="1">
              <a:off x="1763280" y="6142680"/>
              <a:ext cx="12240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Connettore 1 19"/>
            <p:cNvSpPr/>
            <p:nvPr/>
          </p:nvSpPr>
          <p:spPr>
            <a:xfrm flipV="1">
              <a:off x="512640" y="6396480"/>
              <a:ext cx="21654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0" name="Connettore 1 13"/>
          <p:cNvSpPr/>
          <p:nvPr/>
        </p:nvSpPr>
        <p:spPr>
          <a:xfrm flipV="1">
            <a:off x="471600" y="6164280"/>
            <a:ext cx="1004760" cy="144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ute the table of co-occurrenc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nd few metrics: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freq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total frequency on diagonal,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deg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um over 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3" name="Immagine 3" descr=""/>
          <p:cNvPicPr/>
          <p:nvPr/>
        </p:nvPicPr>
        <p:blipFill>
          <a:blip r:embed="rId1"/>
          <a:srcRect l="5619" t="5131" r="0" b="33979"/>
          <a:stretch/>
        </p:blipFill>
        <p:spPr>
          <a:xfrm>
            <a:off x="127080" y="3213000"/>
            <a:ext cx="8851680" cy="2016360"/>
          </a:xfrm>
          <a:prstGeom prst="rect">
            <a:avLst/>
          </a:prstGeom>
          <a:ln w="0">
            <a:noFill/>
          </a:ln>
        </p:spPr>
      </p:pic>
      <p:pic>
        <p:nvPicPr>
          <p:cNvPr id="404" name="Immagine 4" descr=""/>
          <p:cNvPicPr/>
          <p:nvPr/>
        </p:nvPicPr>
        <p:blipFill>
          <a:blip r:embed="rId2"/>
          <a:srcRect l="0" t="5690" r="0" b="0"/>
          <a:stretch/>
        </p:blipFill>
        <p:spPr>
          <a:xfrm>
            <a:off x="971640" y="5229360"/>
            <a:ext cx="7530840" cy="162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inal score is the sum of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deg(w)/freq(w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for the constituting words w of a key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7" name="Immagine 4" descr=""/>
          <p:cNvPicPr/>
          <p:nvPr/>
        </p:nvPicPr>
        <p:blipFill>
          <a:blip r:embed="rId1"/>
          <a:srcRect l="0" t="5690" r="0" b="0"/>
          <a:stretch/>
        </p:blipFill>
        <p:spPr>
          <a:xfrm>
            <a:off x="804960" y="3035160"/>
            <a:ext cx="7530840" cy="16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08" name="Immagine 5" descr=""/>
          <p:cNvPicPr/>
          <p:nvPr/>
        </p:nvPicPr>
        <p:blipFill>
          <a:blip r:embed="rId2"/>
          <a:stretch/>
        </p:blipFill>
        <p:spPr>
          <a:xfrm>
            <a:off x="3240" y="4941720"/>
            <a:ext cx="9029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Segnaposto contenuto 2"/>
          <p:cNvSpPr/>
          <p:nvPr/>
        </p:nvSpPr>
        <p:spPr>
          <a:xfrm>
            <a:off x="539640" y="1700280"/>
            <a:ext cx="80629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Step #3: Adjoin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dentifies keywords that contain interior stop words such as </a:t>
            </a:r>
            <a:r>
              <a:rPr b="0" i="1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xis of evi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ooks for pairs of keywords that adjoin one another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at least twice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 the same document and in the same or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score for the new keyword is the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um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of its member keyword scor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Segnaposto contenuto 2"/>
          <p:cNvSpPr/>
          <p:nvPr/>
        </p:nvSpPr>
        <p:spPr>
          <a:xfrm>
            <a:off x="547560" y="5661000"/>
            <a:ext cx="806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Arial"/>
              </a:rPr>
              <a:t>Step #4: Select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the top one-thir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3" name="Immagine 3" descr=""/>
          <p:cNvPicPr/>
          <p:nvPr/>
        </p:nvPicPr>
        <p:blipFill>
          <a:blip r:embed="rId1"/>
          <a:stretch/>
        </p:blipFill>
        <p:spPr>
          <a:xfrm>
            <a:off x="744480" y="1700280"/>
            <a:ext cx="7655040" cy="4465440"/>
          </a:xfrm>
          <a:prstGeom prst="rect">
            <a:avLst/>
          </a:prstGeom>
          <a:ln w="0">
            <a:noFill/>
          </a:ln>
        </p:spPr>
      </p:pic>
      <p:sp>
        <p:nvSpPr>
          <p:cNvPr id="414" name="Rettangolo 4"/>
          <p:cNvSpPr/>
          <p:nvPr/>
        </p:nvSpPr>
        <p:spPr>
          <a:xfrm>
            <a:off x="541440" y="6264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3 false positives and 1 false negative (but similar.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6" name="Immagine 3" descr=""/>
          <p:cNvPicPr/>
          <p:nvPr/>
        </p:nvPicPr>
        <p:blipFill>
          <a:blip r:embed="rId1"/>
          <a:stretch/>
        </p:blipFill>
        <p:spPr>
          <a:xfrm>
            <a:off x="533520" y="1908000"/>
            <a:ext cx="8076960" cy="3405240"/>
          </a:xfrm>
          <a:prstGeom prst="rect">
            <a:avLst/>
          </a:prstGeom>
          <a:ln w="0">
            <a:noFill/>
          </a:ln>
        </p:spPr>
      </p:pic>
      <p:sp>
        <p:nvSpPr>
          <p:cNvPr id="417" name="Rettangolo 4"/>
          <p:cNvSpPr/>
          <p:nvPr/>
        </p:nvSpPr>
        <p:spPr>
          <a:xfrm>
            <a:off x="708120" y="5589720"/>
            <a:ext cx="78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Tutorial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www.airpair.com/nlp/keyword-extraction-tuto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Python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github.com/zelandiya/RAKE-tuto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8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ttangolo arrotondato 5"/>
          <p:cNvSpPr/>
          <p:nvPr/>
        </p:nvSpPr>
        <p:spPr>
          <a:xfrm>
            <a:off x="5940360" y="2349360"/>
            <a:ext cx="1008000" cy="35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5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56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6"/>
          <p:cNvSpPr/>
          <p:nvPr/>
        </p:nvSpPr>
        <p:spPr>
          <a:xfrm>
            <a:off x="4037040" y="1768320"/>
            <a:ext cx="649440" cy="436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0-15T20:00:32Z</dcterms:modified>
  <cp:revision>1212</cp:revision>
  <dc:subject/>
  <dc:title>Web Algorithmics</dc:title>
</cp:coreProperties>
</file>